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049-9B45-433E-B4A2-BB6A6F51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147-AADC-4CBF-8E5D-7C0EE59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186-C286-415D-AD90-72FEB303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15D-FD8A-4AA8-871D-606793D0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D37-8B92-422D-A8ED-8D4FEF5D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11F-40F3-46E2-B05F-DC4F5A7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D6A-9673-40E4-88CD-DF4B24A1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FB6D-116D-47ED-B181-FA78086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0EE4-19F1-4932-87E9-37BE4A5E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836-E185-48C0-B24E-AE5BC0D0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D71-ED65-44D7-9F9C-58BC568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FFD-A971-4C66-9788-969A1F6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6D60-6F0B-4A16-A172-BDA9D32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E19-1E0E-4ED1-8023-A886119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B21-5435-4BA0-BD1C-5F703CD5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D272-541A-4B2D-AECA-527A2B2F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A65-0DE3-40F1-9724-6BB871AC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363-43A0-470C-AFA1-D9E46CDE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6AF-870E-4769-8175-17CE816D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4C7-BEDD-466B-BAE2-85B06F9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D7D-B7F8-4DE5-8B2A-2E0736D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DDA-F96A-48BB-8BC5-0A9E030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0FB-0648-4C78-BE6C-FFCC1C6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76C-50C1-4230-B7B6-5E5F4EA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3D03-585F-4B26-B871-CF27B6A9A01A}" type="slidenum">
              <a:rPr b="0" lang="th-TH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cc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768-328F-4EE1-AD9F-7219DB24D192}" type="slidenum">
              <a:rPr b="0" lang="th-TH" sz="1400" spc="-1" strike="noStrike">
                <a:solidFill>
                  <a:srgbClr val="ffffcc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antative chemist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2286000"/>
            <a:ext cx="8153280" cy="41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For each of the laws in the following slides, think of where in today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s chemistry we use th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at is a 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law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sc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o we know if these laws are always righ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y do we accept them and work with them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ow do you think they obtained the evid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Conservation of Mas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From studying reactions involving oxygen, Lavoisier concluded that during any chemical reaction no atoms were destroyed and therefore the mass remains the same during any chemical rea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avoisier - 18th cent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Definite Proportion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nalytical tests showed that a pure substance consists of the same elements in definite propor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xample: water is always 88.88 % oxygen by m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09680" y="1295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Joseph-Louis Proust - 179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8" descr="Photo of Joseph Louis Proust, French chemist, c 1795."/>
          <p:cNvPicPr/>
          <p:nvPr/>
        </p:nvPicPr>
        <p:blipFill>
          <a:blip r:embed="rId1"/>
          <a:stretch/>
        </p:blipFill>
        <p:spPr>
          <a:xfrm>
            <a:off x="4648320" y="20574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Combining Volumes of G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5105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en gases react, they do so in whole number ratios in terms of volum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xample: 3 volumes of hydrogen react with 1 volume of nitrogen to form 2 volumes of ammon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2666880" y="12193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Gay-Lussac - 18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1032" descr="Photo of Joseph Louis Gay-Lussac, French chemist and physicist, early 19th century."/>
          <p:cNvPicPr/>
          <p:nvPr/>
        </p:nvPicPr>
        <p:blipFill>
          <a:blip r:embed="rId1"/>
          <a:stretch/>
        </p:blipFill>
        <p:spPr>
          <a:xfrm>
            <a:off x="5715000" y="1981080"/>
            <a:ext cx="3019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Multiple Propor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 2 different compounds of the same elements, if the mass of 1 element is the same (e.g. 12g C in CO and C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 than the ratio of the mass of the other element (e.g. 16g and 32g for oxygen) in each compound must be whole numb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828800" y="1066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Dalton - 1800</a:t>
            </a:r>
            <a:r>
              <a:rPr b="0" lang="ja-JP" sz="3200" spc="-1" strike="noStrike">
                <a:solidFill>
                  <a:srgbClr val="ffffcc"/>
                </a:solidFill>
                <a:latin typeface="SimSu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3086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vogadro</a:t>
            </a:r>
            <a:r>
              <a:rPr b="0" i="1" lang="ja-JP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 Law  -  18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0574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Equal volumes of different gases at the same temperature and pressure must have equal number of particles (this explains Gay-Lussac</a:t>
            </a:r>
            <a:r>
              <a:rPr b="0" lang="ja-JP" sz="3200" spc="-1" strike="noStrike">
                <a:solidFill>
                  <a:srgbClr val="ffffcc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s Law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6" descr="Lorenzo Romano Amedeo Carlo Avogadro di Quaregua e di Cerreto"/>
          <p:cNvPicPr/>
          <p:nvPr/>
        </p:nvPicPr>
        <p:blipFill>
          <a:blip r:embed="rId1"/>
          <a:stretch/>
        </p:blipFill>
        <p:spPr>
          <a:xfrm>
            <a:off x="4890960" y="2057400"/>
            <a:ext cx="332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1:31:00Z</dcterms:created>
  <dc:creator>dulwich</dc:creator>
  <dc:description/>
  <dc:language>en-US</dc:language>
  <cp:lastModifiedBy>Nico Van De Casteele</cp:lastModifiedBy>
  <dcterms:modified xsi:type="dcterms:W3CDTF">2014-09-10T01:57:47Z</dcterms:modified>
  <cp:revision>13</cp:revision>
  <dc:subject/>
  <dc:title>Law of Conservation of Mass</dc:title>
</cp:coreProperties>
</file>